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3152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22560" y="685440"/>
            <a:ext cx="261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2C0-ECC9-4A22-A22A-C84C85E8F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22560" y="685800"/>
            <a:ext cx="261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74E-2ABC-4A44-8526-C35DB479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AA6-7774-437B-8DEF-0E6A8325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1B8-1C75-4BA0-A41C-31045DAA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64-5125-4D45-B7B2-B38FD969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0E7-8E8F-44B1-88B4-00927C82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77B-3605-4C00-8DF7-CE61D65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02D-FC50-4140-9B49-7715DB0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D65-4242-4C55-86F1-00F805A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620-09B5-4F93-A53E-B4F4D8E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722-97DF-4CE4-9A21-A4ACCBD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40A-F3F3-4069-A91D-272352B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A3B-2A69-4B2A-AFB7-D5F9B74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237-727C-4FD4-A1F9-0A6E935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899560"/>
            <a:ext cx="170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899560"/>
            <a:ext cx="2317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899560"/>
            <a:ext cx="170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16A-9DF9-4D91-A329-D5BD9C1DD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Blog Ti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1200240"/>
            <a:ext cx="480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 Entry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057400" y="1752480"/>
            <a:ext cx="4800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your blog entry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304920" y="12193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304920" y="2133720"/>
            <a:ext cx="1371600" cy="69339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6933960"/>
              <a:gd name="textAreaBottom" fmla="*/ 6867000 h 6933960"/>
            </a:gdLst>
            <a:ahLst/>
            <a:rect l="textAreaLeft" t="textAreaTop" r="textAreaRight" b="textAreaBottom"/>
            <a:pathLst>
              <a:path w="21600" h="109173">
                <a:moveTo>
                  <a:pt x="3600" y="0"/>
                </a:moveTo>
                <a:arcTo wR="3600" hR="3600" stAng="16200000" swAng="-5400000"/>
                <a:lnTo>
                  <a:pt x="0" y="105573"/>
                </a:lnTo>
                <a:arcTo wR="3600" hR="3600" stAng="10800000" swAng="-5400000"/>
                <a:lnTo>
                  <a:pt x="18000" y="109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log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1:32:40Z</dcterms:created>
  <dc:creator>Sedgwick</dc:creator>
  <dc:description/>
  <dc:language>en-US</dc:language>
  <cp:lastModifiedBy>Sedgwick</cp:lastModifiedBy>
  <dcterms:modified xsi:type="dcterms:W3CDTF">2010-10-19T16:43:04Z</dcterms:modified>
  <cp:revision>4</cp:revision>
  <dc:subject/>
  <dc:title>Blog Title</dc:title>
</cp:coreProperties>
</file>